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D8713-BCB6-4F7A-B180-185C5F822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11F9B-AB99-4077-8675-EFE59338DB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07C57-F974-44DB-A309-A971DCFE4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82E6E-3326-4A21-A4CD-B894F313585E}" type="datetime3">
              <a:rPr b="0" lang="en-US" sz="1200" spc="-1" strike="noStrike">
                <a:solidFill>
                  <a:srgbClr val="000000"/>
                </a:solidFill>
                <a:latin typeface="Arial"/>
              </a:rPr>
              <a:t>July 29,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06BE-D5CC-43D8-B420-EA40E5AE1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353AD-3337-4DAB-A4B7-7D46CC7B1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00D5F-26C4-4B78-8178-74CD281D1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071D0-49A3-4D3A-9242-DACA62EDC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960A7-8377-4FE5-87BD-F421589F0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90E7C-0F0C-4075-9A54-AC8DEA83E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20371-271E-4122-AEF0-6766AD492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95AB86-6C57-4A14-B8EC-FDA60DB654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BC147-D18A-49B2-A92A-89CCA7517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D6661-F431-4D08-B117-857B85663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1F053-B74B-4F5E-A118-95397FF91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EC126-9043-4BF2-9AED-AE00B40DE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50DD8-706C-4A6E-8D4C-DD2EEB3EC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5C429-2D0C-43C5-953C-E85A969DC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D0298-E72D-43F3-B0FB-B38DD3571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F5A68-6061-42EF-B570-C2545595E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A0DF4-8BEF-4FFA-B4A6-11A76964C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9F64B-5DD8-4C29-8CF9-415216BCD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EFFC02-4277-46F9-8B2A-875DC69C19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460BA-7414-4A0D-97BA-7C473CA8E2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AF642-7F59-4444-B152-10327B92C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6F9B5-098E-469C-9A7D-A5A714BCE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6B694-74C9-44BB-9380-E76D5351A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037BE-C2B7-4F88-B850-DC843CF1D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2BF2E-194D-4A8B-9893-98C2309D6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DCDB1-0C04-4EAC-B74D-1E6B05D1B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AF507-6C77-4A68-8A91-B0E29B5F5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D5619-DB32-464D-9A96-AEB15F05E5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D43B1C1-C2DB-4087-95C6-40B978E4740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ABE666B-A49F-48DE-A34C-CE48B8D252E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52DA5-AB7A-48D6-9D21-C37CE053D989}" type="datetime">
              <a:rPr b="0" lang="en-US" sz="1400" spc="-1" strike="noStrike">
                <a:solidFill>
                  <a:srgbClr val="000000"/>
                </a:solidFill>
                <a:latin typeface="Arial"/>
              </a:rPr>
              <a:t>07/29/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5028A-DC3F-48C4-A32A-4C71DDAC76F4}"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